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C00D7-4E55-413C-956B-CD632DEBB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30CA-9A9B-4B05-9019-E49DF8CAA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2AF7-27CC-4398-8DA1-030263B4C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9492-A481-401F-8361-777E95707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41D97-9360-419E-BF0C-3F034951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13C27-D93A-4A44-AC9C-A5740623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EFD1C-3835-4D51-8F55-8665C6CD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EFB25-6C0A-410E-9A14-F994C240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147EC-7564-493C-9225-D7C39119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F03D0-19B6-403E-93F6-19099A2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BEC10-ED21-4BD8-A7D1-AC4290DB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F543-E8F2-450C-864D-A6C4DB3CF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587C9-9913-486E-ACC8-05737573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475BE-AE28-490D-97A7-C6840887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56962-7F3C-450F-9052-E82ED9CB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6790B-EABB-410E-AE98-C2C8C9CD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286F8-76E6-459E-9A60-16099768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7699-2990-4942-ABF4-93504CF71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26E3-C52A-485D-89DD-72A84C64F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3504-35A5-4F61-810A-D6510B106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CCF67-6721-4968-9CC7-E8038C22D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3FCE1-B477-4492-A701-133E08DB3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D028-1F0C-426D-99A5-7626FFEBA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4E2A-3727-44E5-A93C-83B63C574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1"/>
          </p:nvPr>
        </p:nvSpPr>
        <p:spPr>
          <a:xfrm rot="16200000">
            <a:off x="-2504520" y="3737520"/>
            <a:ext cx="56246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7020000" y="626760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8DB7-765C-45D9-A962-4DC55D9F433F}" type="slidenum">
              <a:rPr b="0" lang="it-IT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6654960"/>
            <a:ext cx="8353440" cy="1404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6710400"/>
            <a:ext cx="8205840" cy="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0"/>
            <a:ext cx="7704000" cy="16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b6b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408880" y="0"/>
            <a:ext cx="735120" cy="716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74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689880"/>
            <a:ext cx="9144000" cy="168120"/>
          </a:xfrm>
          <a:prstGeom prst="rect">
            <a:avLst/>
          </a:prstGeom>
          <a:gradFill rotWithShape="0">
            <a:gsLst>
              <a:gs pos="0">
                <a:srgbClr val="6b6b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BB2A-8EC2-4ECF-BF3E-45B43E7D1D74}" type="slidenum">
              <a:rPr b="0" lang="it-IT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6093000"/>
            <a:ext cx="6697800" cy="7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95640" y="11253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2960" y="725400"/>
            <a:ext cx="1335240" cy="766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b6b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Macchine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per l’elaborazione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dell’informazione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32000" y="719280"/>
            <a:ext cx="792360" cy="771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148360" y="719280"/>
            <a:ext cx="780840" cy="7696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acchine per l’elaborazione dell’informazion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Ing. Mauro Iaco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Seconda Università degli Studi di Napol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PARSeC Research Gro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tus regis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268280"/>
            <a:ext cx="8688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u fig. 9.1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gnificato dei b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0: TxRDY – data out buffer empty (non condizionato da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CT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e TxEN, diversamente dall’omonimo pin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1, 2, 6: riflettono lo stato dei segnali RxRDY, TxE e SYND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3: parity err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4: overrun err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5: framing err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7: riflette lo stato (logico) del segnale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DS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xRDY e RxRDY vanno automaticamente a 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xE segnala che lo shift register in trasmissione è libero (in sync mode è alimentato dai registri SYN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8BC98-D034-4F5D-AF93-7BB3CA3B76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empio: inizializzazi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izializzazione dell’interfaccia in modo asincrono con caratteri di 7 bit con un bit di parità e 2 bit di stop, fattore 16 di sovracampionamento (porto di controllo e modo a 51H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L,11111010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L,00110011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769A-A123-42A6-A1A7-55FA6BBD09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empio: inizializzazi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izializzazione dell’interfaccia in modo sincrono con caratteri di 7 bit con un bit di parità e 2 SYNC iniziali (porto di controllo e modo a 51H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L,00111000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L,16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L,10010100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B426-96F5-467A-B942-4C6A82139C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empio: ricezione di una lin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L,00110101B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attiva tx e rx e azzera gli errori nel bit di sta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,0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inizializza registro ind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X,80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limite contegg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EGIN: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L,51H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attendi inizio ricezion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ES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L,02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JZ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L,50H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leggi carattere metti nel buffer di line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INE[DI],AL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metti nel buffer di line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C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L,51H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controllo error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ES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L,00111000B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JNZ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se c’è un errore, gestiscil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OOP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EGIN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altrimenti attendi prossimo caratte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JMP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HORT EXI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se finiti, esc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ALL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EAR PTR ERR_ROU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chiamata routine di gestion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O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171B-FA5F-4012-9633-E6CBB9084B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arte prima: analisi dell’architettura dei sistemi di elaborazione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ccecff"/>
                </a:solidFill>
                <a:latin typeface="Arial"/>
              </a:rPr>
              <a:t>Componenti:</a:t>
            </a:r>
            <a:br>
              <a:rPr sz="5400"/>
            </a:br>
            <a:r>
              <a:rPr b="0" lang="it-IT" sz="5400" spc="-1" strike="noStrike">
                <a:solidFill>
                  <a:srgbClr val="ccecff"/>
                </a:solidFill>
                <a:latin typeface="Arial"/>
              </a:rPr>
              <a:t>USART Intel 8251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(Liu cap. 9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l 8251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faccia seriale che opera in modo sincrono e asincrono (USAR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ichiede 2 porti su cui vengono mappati tutti i registr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faccia di programmazio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e registri per i dati in ingresso  e in usci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 registro di control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 registro di sta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 registro di mo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e registri per memorizzare i caratteri SYN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3942-DAD8-46F2-B9FC-E028FB7918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rganizzazi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5113080" cy="5616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435640" y="1257480"/>
            <a:ext cx="3708360" cy="51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D7-D0: bus dati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RxC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TxC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clock per la trasmission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/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D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selezione registr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CS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chip selec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RD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selezione lettur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WR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selezione scrittur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TxRDY, RxRDY: linee di interruzione per trasmissione e ricezion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RESET: master clear command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LK: internal timing frequency (per sovracampionare i segnali in arrivo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RxD: dati in ingress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TxD: dati in uscit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TxE: nulla da trasmetter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DSR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DTR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CTS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RTS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, SYNDET: controllo del modem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293A-F6FE-49B6-8208-4D97EAC22D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irizzamento dei registr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8920" y="1598760"/>
            <a:ext cx="8688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no usati i segnali C/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R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W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0, 0, 1): accesso al registro dati ricevu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0, 1, 0): accesso al registro dati da trasmett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1, 0, 1): lettura status regis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1, 1, 0): scrittura mode register, control register o SYNC character regis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utte le altre combinazioni non sono legali e mettono le linee D0-D7 in alta impedenz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4DFE-DA53-4171-A94A-D6AB772F49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figurazi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96920" y="1125360"/>
            <a:ext cx="3438360" cy="5543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08360" y="1125360"/>
            <a:ext cx="54356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po un reset HW o SW, in scrittur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0=1 -&gt; mode regis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 i 2 LSB sono 0 (async mode), MSB dà il numero di SYNC, anche essi inviati con A0=1(altrimenti in async mode nulla va nei SYN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no al prossimo rese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0=0: data out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0=1: control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6365-5888-4394-A169-BF14993BB9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 regis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000" y="1268280"/>
            <a:ext cx="4751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gnificato dei bit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it 1-0: 00 modo sync (rate da clock esterni), altrimenti modo async con indicazione fattore di sovracampionament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it 3-2: numero bit dat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it 4: uso di parit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it 5: tipo parit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it 7-6: numero di bit di stop (async), numero di SYNC e uso di SYNDET in input all’interfaccia [se c’è un external SYNC detector] o output [segnale SYNC detected] (sync). In modo async SYNDET è alto se arriva un carattere di tutti 0 (BREAK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781520" y="1197000"/>
            <a:ext cx="4327560" cy="51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125A-850E-4891-A953-717C93E82E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ol regis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28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gnificato dei b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0: abilita la trasmissi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1: risposta al mod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2: abilita la ricezi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3: invia carattere BREA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4: pulisce i bit errore nel registro di st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5: richiesta trasmissione a mod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6: res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7: modalità ricerca SYNC (solo sync mod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4932360" cy="259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3DCF-A312-4C30-B5E8-23FEF401AE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9:01:11Z</dcterms:created>
  <dc:creator>Mauro</dc:creator>
  <dc:description/>
  <dc:language>en-US</dc:language>
  <cp:lastModifiedBy>Salvatore Venticinque</cp:lastModifiedBy>
  <dcterms:modified xsi:type="dcterms:W3CDTF">2007-10-04T20:53:47Z</dcterms:modified>
  <cp:revision>78</cp:revision>
  <dc:subject/>
  <dc:title>Macchine per l’elaborazione dell’informazione</dc:title>
</cp:coreProperties>
</file>