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4874-ABFC-41BF-A2A7-7E5EDD758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A1DE-A554-4A70-8440-504F89351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868B-880A-4DF6-8F16-6D023BAAD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43AB-B936-4E8A-B735-E9149FBDD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0A275-E845-4A3D-A544-32B76546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8424-7223-4DBB-ACAA-E0420BE8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17E2B-06D4-4A2C-944E-6AB1A040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6DD78-4E99-460B-9808-BE4470B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DF7D4-7BE8-4D6C-ABA3-EA93E6AD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61359-E174-433A-B3DC-E2CD69EC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EA268-A5BE-41DA-BC62-29D63DC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1130-3CA0-4B2F-9C92-985D6F98B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5D1C2-8788-4080-B1AF-99D81F3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FADA-0CAC-4558-B44C-7556951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94A6-01B1-4F84-94F0-9DD854A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FA0E6-5B86-4881-AAB9-C723FC76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67434-E37C-41D9-A7F7-8C298B8C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6C40-267E-4CD2-8401-39C1E789E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878B-74E5-4965-92E6-F947E6F66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3064-5FF6-4A74-9399-26629EED4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E1AF-682F-49C6-9818-40D6B5318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D85D-5436-4533-BD06-A143C86B7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5E49-5832-45CE-B6F3-7441C0824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6C33-CF7B-48A1-854F-9F60E6E44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1"/>
          </p:nvPr>
        </p:nvSpPr>
        <p:spPr>
          <a:xfrm rot="16200000">
            <a:off x="-2504520" y="3737520"/>
            <a:ext cx="5624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7020000" y="626760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DC35-3BCC-469D-B263-CA2438B71E8E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654960"/>
            <a:ext cx="8353440" cy="14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710400"/>
            <a:ext cx="8205840" cy="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0"/>
            <a:ext cx="7704000" cy="16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6b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408880" y="0"/>
            <a:ext cx="735120" cy="7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74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689880"/>
            <a:ext cx="9144000" cy="168120"/>
          </a:xfrm>
          <a:prstGeom prst="rect">
            <a:avLst/>
          </a:prstGeom>
          <a:gradFill rotWithShape="0">
            <a:gsLst>
              <a:gs pos="0">
                <a:srgbClr val="6b6b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7D4-5CA4-4E70-88E1-F861DD0220C6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6093000"/>
            <a:ext cx="66978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11253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2960" y="725400"/>
            <a:ext cx="1335240" cy="76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b6b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Macchi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per l’elabor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dell’inform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32000" y="719280"/>
            <a:ext cx="792360" cy="771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148360" y="719280"/>
            <a:ext cx="780840" cy="769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cchine per l’elaborazione dell’informazio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g. Mauro Iaco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econda Università degli Studi di Napo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ARSeC Research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268280"/>
            <a:ext cx="8688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u fig. 9.1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0: TxRDY – data out buffer empty (non condizionato da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T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 TxEN, diversamente dall’omonimo pi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1, 2, 6: riflettono lo stato dei segnali RxRDY, TxE e SYND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3: parity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4: overrun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5: framing er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7: riflette lo stato (logico) del segnal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DS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xRDY e RxRDY vanno automaticamente a 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xE segnala che lo shift register in trasmissione è libero (in sync mode è alimentato dai registri SYN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6ABD-1B7E-46A1-9034-FAB1C1A5A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inizial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izializzazione dell’interfaccia in modo asincrono con caratteri di 7 bit con un bit di parità e 2 bit di stop, fattore 16 di sovracampionamento (porto di controllo e modo a 51H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111101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00110011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A081-DA19-4EC2-86BF-A6BB91B58A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inizial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izializzazione dell’interfaccia in modo sincrono con caratteri di 7 bit con un bit di parità e 2 SYNC iniziali (porto di controllo e modo a 51H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0011100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6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,10010100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78DC-0584-4CEB-A5DB-AE179C87F9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pio: ricezione di una lin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0110101B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ttiva tx e rx e azzera gli errori nel bit di sta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1H,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,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inizializza registro ind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X,8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limite contegg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: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1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ttendi inizio ricezion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2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Z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0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leggi carattere metti nel buffer di line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NE[DI],AL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metti nel buffer di line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51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controllo error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L,00111000B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NZ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se c’è un errore, gestiscil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P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GI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altrimenti attendi prossimo caratte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MP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HORT EXI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se finiti, esc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ALL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AR PTR ERR_ROU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; chiamata routine di gestion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A707-77B9-4ED2-9D7B-706B712662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rte prima: analisi dell’architettura dei sistemi di elaborazion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Componenti:</a:t>
            </a:r>
            <a:br>
              <a:rPr sz="5400"/>
            </a:b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USART Intel 8251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(Liu cap. 9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l 825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faccia seriale che opera in modo sincrono e asincrono (USAR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chiede 2 porti su cui vengono mappati tutti i registr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faccia di programm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registri per i dati in ingresso  e in usci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control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sta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registro di mo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registri per memorizzare i caratteri SYN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2654-2B18-4B93-B9BB-49BF31B2D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gan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113080" cy="561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35640" y="1257480"/>
            <a:ext cx="370836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D7-D0: bus dat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xC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TxC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clock per la trasmissio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/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registr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C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chip selec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D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lettur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W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elezione scrittur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RDY, RxRDY: linee di interruzione per trasmissione e ricezio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SET: master clear comman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LK: internal timing frequency (per sovracampionare i segnali in arrivo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xD: dati in ingress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D: dati in uscit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xE: nulla da trasmetter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S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DT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CT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RT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, SYNDET: controllo del mode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E168-6DC3-4F03-B18A-F4972FE126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rizzamento dei regist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598760"/>
            <a:ext cx="8688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no usati i segnali C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W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0, 0, 1): accesso al registro dati ricevu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0, 1, 0): accesso al registro dati da trasmett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1, 0, 1): lettura status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1, 1, 0): scrittura mode register, control register o SYNC character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tte le altre combinazioni non sono legali e mettono le linee D0-D7 in alta impeden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804E-F959-4541-BC87-213B1700B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figur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96920" y="1125360"/>
            <a:ext cx="3438360" cy="554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08360" y="1125360"/>
            <a:ext cx="54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po un reset HW o SW, in scrittur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0=1 -&gt; mode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i 2 LSB sono 0 (async mode), MSB dà il numero di SYNC, anche essi inviati con A0=1(altrimenti in async mode nulla va nei SYN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no al prossimo rese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0=0: data out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0=1: control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9A3E-CC6E-471E-B8D8-51FBFE3A5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000" y="1268280"/>
            <a:ext cx="4751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1-0: 00 modo sync (rate da clock esterni), altrimenti modo async con indicazione fattore di sovracampionamen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3-2: numero bit da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4: uso di pa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5: tipo pa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it 7-6: numero di bit di stop (async), numero di SYNC e uso di SYNDET in input all’interfaccia [se c’è un external SYNC detector] o output [segnale SYNC detected] (sync). In modo async SYNDET è alto se arriva un carattere di tutti 0 (BREAK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81520" y="1197000"/>
            <a:ext cx="4327560" cy="51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125E-E6D9-4DCF-BE5A-AB71170A7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l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gnificato dei b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0: abilita la trasmiss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1: risposta al mod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2: abilita la ricez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3: invia carattere BRE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4: pulisce i bit errore nel registro di st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5: richiesta trasmissione a mod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6: re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7: modalità ricerca SYNC (solo sync mod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932360" cy="25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DA75-BC3D-480A-861A-E7536A7D75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01:11Z</dcterms:created>
  <dc:creator>Mauro</dc:creator>
  <dc:description/>
  <dc:language>en-US</dc:language>
  <cp:lastModifiedBy>Salvatore Venticinque</cp:lastModifiedBy>
  <dcterms:modified xsi:type="dcterms:W3CDTF">2007-10-04T20:53:47Z</dcterms:modified>
  <cp:revision>78</cp:revision>
  <dc:subject/>
  <dc:title>Macchine per l’elaborazione dell’informazione</dc:title>
</cp:coreProperties>
</file>