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94FAD-B1EB-4694-8F93-CAF85913F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06C0B-4231-4F94-9330-12B4978B1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BFE6-B29C-4E1D-8F59-F76FC20E6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41568-9686-40FB-A965-97A0C52B3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9169A-D7F8-4777-B9CA-57D4D723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C395A-55AD-4178-ADCA-EE83A84A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CCE0D-3A3A-4438-99AB-AD54DE56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37CE7-E28F-4B88-A87B-0B064F02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D40ED-09C4-4DE0-A086-E59F4C69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50FF0-CBE9-4DFD-9092-C21AE3C8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18D24-1EF6-4788-94FE-43068E72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774AA-5042-4ED5-8AFD-26AEE1634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0A3E0-951B-4DDB-8FAB-078BACCA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3E061-6192-4BCC-B96B-DBABB0AF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8457E-63E1-4BD8-A66F-055BBFF4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7EE11-9F8E-4C78-9595-CA4DE8B5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835E1-7747-4CCD-8D98-4779E7FE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8DB33-07AE-4223-9BC8-26BE5F758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09B3B-9B3D-4B9D-8EB0-27379F795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8B35D-A72B-42AD-B821-C3F0CAE90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186C3-A4A6-4827-96C9-3CC2BE2FB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597BF-2759-4AB2-A102-013C46D8E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73DD4-BB69-48A4-8D09-0E30BE7B0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87555-3FE9-46C2-8480-758AF21F0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1"/>
          </p:nvPr>
        </p:nvSpPr>
        <p:spPr>
          <a:xfrm rot="16200000">
            <a:off x="-2504520" y="3737520"/>
            <a:ext cx="56246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2"/>
          </p:nvPr>
        </p:nvSpPr>
        <p:spPr>
          <a:xfrm>
            <a:off x="7020000" y="626760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756A-0886-4539-BE2A-341F6B1C3DDA}" type="slidenum">
              <a:rPr b="0" lang="it-IT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6654960"/>
            <a:ext cx="8353440" cy="1404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6710400"/>
            <a:ext cx="8205840" cy="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0"/>
            <a:ext cx="7704000" cy="16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b6b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408880" y="0"/>
            <a:ext cx="735120" cy="716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55640" cy="746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6689880"/>
            <a:ext cx="9144000" cy="168120"/>
          </a:xfrm>
          <a:prstGeom prst="rect">
            <a:avLst/>
          </a:prstGeom>
          <a:gradFill rotWithShape="0">
            <a:gsLst>
              <a:gs pos="0">
                <a:srgbClr val="6b6b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6AC1-7083-4802-B28C-4F73401C4748}" type="slidenum">
              <a:rPr b="0" lang="it-IT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6093000"/>
            <a:ext cx="6697800" cy="7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95640" y="112536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2960" y="725400"/>
            <a:ext cx="1335240" cy="766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b6b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ras Bold ITC"/>
              </a:rPr>
              <a:t>Macchine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ras Bold ITC"/>
              </a:rPr>
              <a:t>per l’elaborazione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ras Bold ITC"/>
              </a:rPr>
              <a:t>dell’informazione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132000" y="719280"/>
            <a:ext cx="792360" cy="771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148360" y="719280"/>
            <a:ext cx="780840" cy="7696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Macchine per l’elaborazione dell’informazion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Ing. Mauro Iacon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Seconda Università degli Studi di Napol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PARSeC Research Gro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atus register e fla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gnificato dei b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it 3-0: stato dei contatori dei canali 3-0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it 7-4: presenza di richieste pendenti sui canali 3-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quest fla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sto a 1, equivale all’attivazione di DREQ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sk fla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sto a 1, disabilita il cana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C44BA-D1B1-4BBE-9CCF-9182AE8F23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zionamento: master e sla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r la programmazione (modo slave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sto in modo slave con HRQ 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C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as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 16 bit di indirizzo: i 4 più bassi usati per l’indirizzamento interno (A3=0 per address o count register, 1 per control o status register o comandi, A2-A1=canale, A0=0 per address register, 1 per count register) e gli altri 12 usati per selezionare il ch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I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IOW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usati come segnali di controllo per leggere e scrivere i registri del controller, quando AEN è 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urante il funzionamento (modo maste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EN vale 1 quando scrive sul bus indirizz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6994D-E756-4574-B916-05C58D9C9C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ati e sinossi dei comand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2957760" cy="5661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859280" y="2852640"/>
            <a:ext cx="3375000" cy="165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B589F-2FDD-40A2-9311-92D1C37EF6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zionamento: bus indirizz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modo master l’8237 deve fornire gli indirizz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ne il byte basso su A7-A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ne il byte alto su DB7-DB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tta AEN a 1 inibendo la CPU e carica i latch sul bus indirizzi con il byte da DB7-DB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via un impulso tramite ADSTB abilitando i latch e impostando i segnali A15-A8 del bus indirizz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 architetture con 20 bit di indirizzo A19-A16 vanno impostati a parte prima dell’inizio delle operazioni in un apposito componente esterno (ogni trasferimento è sempre limitato a 2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y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2B561-5189-417F-887F-668BCB4FCD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nzionamento: trasferimen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88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r interagire con le periferiche e la memor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I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IOW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EM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EMW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comandano letture e scritture su periferiche e memor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Questi segnali devono essere ricavati dai segnali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RD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W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e IO/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della CPU con un enco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a fine di un trasferiment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EOP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viene dato un impulso negativo che può essere interpretato come una interruzione o da una periferic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EOP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può anche essere usato dalla periferica: comunque un segnale basso su EOP ferma il block transf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211C0-8B59-4CAC-B025-EAFD73DB5F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27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arte prima: analisi dell’architettura dei sistemi di elaborazione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ccecff"/>
                </a:solidFill>
                <a:latin typeface="Arial"/>
              </a:rPr>
              <a:t>Componenti: DMA Controller Intel 8237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(Liu cap. 9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l controller DMA Intel 823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929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atto per sistemi basati su i808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’indirizzo base deve essere divisibile per 1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gistr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trol regis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tus regis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mporary regis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4 canali DMA disponibil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ssibili 2 controller in cascade mo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36EEA-35CF-432D-978C-2417C375FE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rganizzazi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5722920" cy="5667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867280" y="1119240"/>
            <a:ext cx="3276720" cy="46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A7-A0: bus indirizzi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DB7-DB0: bus dati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ADSTB: address strob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AEN: 1 = master bus indirizzi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CLK: clock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HLDA/HRQ: connessi a DACK/DRQ in cascade mod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IOR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: lettura I/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MEMR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: lettura memori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IOW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: scrittura I/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MEMW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: scrittura memori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CS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: chip select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READY: dalla CPU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RESET: master clear command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DREQ0-3: data request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DACK0-3: data acknowledg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A8AC9-328B-4FF1-928D-AC487A93E8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ali D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gni canale ha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 mode register Un current address register (indirizzo destinazion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 base address register (inizio area di memori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 current byte count register (contatore byt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 base byte count register (dimensione blocco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quest flag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k fla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 canali sono tutti indipendenti: ognuno può essere in uno dei 4 modi di funzioname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l modo è selezionato tramite i bit 7 e 6 del mode registe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AAC42-EC09-4E74-9DD2-71BF520EE7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 regis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760" y="1197000"/>
            <a:ext cx="8688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gnificato dei b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it 7-6: modo di funzioname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it 5: se 1 indirizzi a scende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it 4: se 1 autoinizializzazione a fine blocc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it 3-2: tipo di operazion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 00 verific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 10 lettur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 01 scrittur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it 1-0: definiscono a quale canale ci si riferisce scrivendo sull’unico indirizzo relativo ai 4 mode regist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E5619-53FC-44D4-9984-043211F55B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i di funziona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6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ngle transfer mode (01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po ogni trasferimento il controller rilascia il bus per almeno un ciclo ma immediatamente controlla DREQ per rubare un altro ciclo appena si alz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lock transfer mode (10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DREQ attivo, appena arriva DACK si avvia il trasferimento, che continua per l’intero blocco a prescindere dal comportamento di DREQ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mand transfer mode (00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e precedente, ma se DREQ (testato a ogni trasferimento) si abbassa, si sospende il trasferimento del blocco che riprende quando DREQ risale (utile con periferiche lent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scade mode (11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3BAAB-CE8F-46ED-84D5-3E689F6881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rol regis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760" y="1267920"/>
            <a:ext cx="8688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gnificato dei b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0: memory-to-memory tramite canali 0 (source, fornisce l’indirizzo di origine) e 1 (destination, fornisce l’indirizzo di destinazione e il contatore) usando il temporary regis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1: tieni fisso l’indirizzo base, utile per riempire la memoria di uno stesso valo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2: abilita (0) o disabilita (1) il control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3: tipo di tim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4: priorità fissa o a rotazione dei canali (0=max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5: se 1,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IOW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e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MEMW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durano 2 cicli di clo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6: se 1/0, DREQ è attivo quando alto/bass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it 7: se 1/0, DACK è attivo quando basso/al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cchine per l'Elaborazione dell'Informazione - Mauro Iacono - Seconda Università di Napoli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37F53-0A45-41B7-846B-01D90F0FF9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9:01:11Z</dcterms:created>
  <dc:creator>Mauro</dc:creator>
  <dc:description/>
  <dc:language>en-US</dc:language>
  <cp:lastModifiedBy>Valeentina Casola</cp:lastModifiedBy>
  <dcterms:modified xsi:type="dcterms:W3CDTF">2005-11-23T14:05:00Z</dcterms:modified>
  <cp:revision>64</cp:revision>
  <dc:subject/>
  <dc:title>Macchine per l’elaborazione dell’informazione</dc:title>
</cp:coreProperties>
</file>